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E384A-B355-4CD4-8308-415A64F7B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41112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FF613-5D44-4CAD-98B6-41FB1A3BC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1112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41112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33F98-26EF-4E53-830A-D78EC21668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41112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41112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41112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CBCD6-7ABF-40B2-9F87-091B334E87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28F95-F43E-4EA6-984F-ECD8817F19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82516-0E24-4170-824B-65ECBE4F3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001FD-6A3E-43B6-A2DE-B67C261E9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20375-477C-4E4D-9AF6-AC512773A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560" y="22824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649D-321C-4FE3-9544-6737BB955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41112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E81E6-20F7-4C87-A82A-9658A88E3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41112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EA986-8602-4425-8492-183AF9F141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1112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13423-C738-4C72-9460-44E73F56C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81880" y="6248520"/>
            <a:ext cx="609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B460-BC03-4A36-8C49-37530D85872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ysgol-rhyngrwyd.wikispaces.com/Unit+4+Changing+Earth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Arial"/>
              </a:rPr>
              <a:t>Process of scenery change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vers in particul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8661E-FC6D-41FB-8336-1D3D856EBC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3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2266"/>
                </a:solidFill>
                <a:latin typeface="Comic Sans MS"/>
              </a:rPr>
              <a:t>River Transport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2234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iver carries or transports eroded materials such as mud, sand, boulders and dissolved materials on its journey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materials are known as </a:t>
            </a: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its loa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load is carried along by four process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tracti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saltati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suspension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solution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" descr="River Transport."/>
          <p:cNvPicPr/>
          <p:nvPr/>
        </p:nvPicPr>
        <p:blipFill>
          <a:blip r:embed="rId4"/>
          <a:stretch/>
        </p:blipFill>
        <p:spPr>
          <a:xfrm>
            <a:off x="7093080" y="189000"/>
            <a:ext cx="1647720" cy="116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4A289-A4DB-4F39-BBAC-2BEAD62602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2266"/>
                </a:solidFill>
                <a:latin typeface="Comic Sans MS"/>
              </a:rPr>
              <a:t>River Transport 1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where boulders or stones are rolled along the stream bed by the force of the wa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" descr="Traction."/>
          <p:cNvPicPr/>
          <p:nvPr/>
        </p:nvPicPr>
        <p:blipFill>
          <a:blip r:embed="rId2"/>
          <a:stretch/>
        </p:blipFill>
        <p:spPr>
          <a:xfrm>
            <a:off x="1795320" y="2852640"/>
            <a:ext cx="5513400" cy="21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79454-59C5-4FC6-B2CD-9457ECF8D3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2266"/>
                </a:solidFill>
                <a:latin typeface="Comic Sans MS"/>
              </a:rPr>
              <a:t>River Transport 2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838224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altat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when small particles  such as tiny pebbles are carried along in the rive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mall particles bounce along and leapfrog over each 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" descr="Suspension."/>
          <p:cNvPicPr/>
          <p:nvPr/>
        </p:nvPicPr>
        <p:blipFill>
          <a:blip r:embed="rId3"/>
          <a:stretch/>
        </p:blipFill>
        <p:spPr>
          <a:xfrm>
            <a:off x="1573200" y="4340160"/>
            <a:ext cx="5446800" cy="211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271EB-DDEC-4B12-990F-293944EF65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2266"/>
                </a:solidFill>
                <a:latin typeface="Comic Sans MS"/>
              </a:rPr>
              <a:t>River Transport 3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838224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spens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when very fine particles (suspension) such as clay, silt and fine sand are carried along in the rive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mall particles are held up by the water as they float because they are very, very small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763640" y="4176720"/>
            <a:ext cx="5878440" cy="220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18B5F-F8C9-4EDE-A913-CB8306F505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An example of suspension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340000" y="2077920"/>
            <a:ext cx="5040360" cy="305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CD9E9-8FE3-4B4A-8972-D46C72FE37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2266"/>
                </a:solidFill>
                <a:latin typeface="Comic Sans MS"/>
              </a:rPr>
              <a:t>River Transport 4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ansportation in solu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when dissolved materials containing minerals like calcium and sodium are carried in the water and are invisible to the naked ey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picture here because you cannot see them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FB048-3850-40EB-BBD8-2262E33494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Now go to the animation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://ysgol-rhyngrwyd.wikispaces.com/Unit+4+Changing+Earth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is also 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://www.bbc.co.uk/schools/gcsebitesize/geography/riverswater/riverprocessesrev2.shtm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FFEE-BA5E-4913-B225-FB61DE5EC8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3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2266"/>
                </a:solidFill>
                <a:latin typeface="Comic Sans MS"/>
              </a:rPr>
              <a:t>River Deposition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341360"/>
            <a:ext cx="8367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iver drop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s loa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hen the speed or volume of the river decrease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oad, which it carries, is deposite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heavier material is deposited first and the finer material carried furt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vers reduce their speed when they enter flat land, enters a lake or the sea or reach an arid are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olume can be reduced during a dry season or when the river passes over more porous landscapes  e.g. sand or limesto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" descr="River Deposition - icon"/>
          <p:cNvPicPr/>
          <p:nvPr/>
        </p:nvPicPr>
        <p:blipFill>
          <a:blip r:embed="rId6"/>
          <a:stretch/>
        </p:blipFill>
        <p:spPr>
          <a:xfrm>
            <a:off x="7664400" y="260280"/>
            <a:ext cx="1054080" cy="10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6CE9E-5A58-42D3-A59A-A19D45CDC3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Do the River processes test quiz bite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://www.bbc.co.uk/apps/ifl/schools/gcsebitesize/geography/quizengine?quiz=riverprocessestest&amp;templateStyle=geograph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4A90C-6C74-4B48-BAE3-70D42838A3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Processes at work 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om the source to mouth of a river three processes are taking pl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187280" y="2924280"/>
            <a:ext cx="6121440" cy="1441440"/>
            <a:chOff x="1187280" y="2924280"/>
            <a:chExt cx="6121440" cy="1441440"/>
          </a:xfrm>
        </p:grpSpPr>
        <p:pic>
          <p:nvPicPr>
            <p:cNvPr id="44" name="" descr="River Erosion."/>
            <p:cNvPicPr/>
            <p:nvPr/>
          </p:nvPicPr>
          <p:blipFill>
            <a:blip r:embed="rId2"/>
            <a:stretch/>
          </p:blipFill>
          <p:spPr>
            <a:xfrm>
              <a:off x="1187280" y="2924280"/>
              <a:ext cx="1328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River Transport."/>
            <p:cNvPicPr/>
            <p:nvPr/>
          </p:nvPicPr>
          <p:blipFill>
            <a:blip r:embed="rId3"/>
            <a:stretch/>
          </p:blipFill>
          <p:spPr>
            <a:xfrm>
              <a:off x="3419640" y="3127320"/>
              <a:ext cx="1652400" cy="11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River Deposition."/>
            <p:cNvPicPr/>
            <p:nvPr/>
          </p:nvPicPr>
          <p:blipFill>
            <a:blip r:embed="rId4"/>
            <a:stretch/>
          </p:blipFill>
          <p:spPr>
            <a:xfrm>
              <a:off x="6043680" y="2995560"/>
              <a:ext cx="1265040" cy="129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"/>
          <p:cNvSpPr/>
          <p:nvPr/>
        </p:nvSpPr>
        <p:spPr>
          <a:xfrm>
            <a:off x="684360" y="4508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ver erosion     River Transport   River De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533E-8E0B-4D54-9217-CC54C6BCC2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What is erosion?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96640"/>
            <a:ext cx="838224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rosion is the way in which rock is worn away by something else, for example by wind or water or ice – these 3 are called </a:t>
            </a: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agents of eros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without them no erosion would take pla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not like weathering where the rock is broken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Can you remember the 3 types of weathering?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4 different ways water erodes the river aw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28B60-186D-4017-BD17-66C32F0BA8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3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2266"/>
                </a:solidFill>
                <a:latin typeface="Comic Sans MS"/>
              </a:rPr>
              <a:t>River Erosion 1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267920"/>
            <a:ext cx="822348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tri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collision of rock fragments in the water against one anothe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ock particles are broken into smaller pieces and become smoother the longer the process continu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" descr="River Erosion"/>
          <p:cNvPicPr/>
          <p:nvPr/>
        </p:nvPicPr>
        <p:blipFill>
          <a:blip r:embed="rId3"/>
          <a:stretch/>
        </p:blipFill>
        <p:spPr>
          <a:xfrm>
            <a:off x="7683480" y="260280"/>
            <a:ext cx="1063800" cy="1152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Attrition"/>
          <p:cNvPicPr/>
          <p:nvPr/>
        </p:nvPicPr>
        <p:blipFill>
          <a:blip r:embed="rId4"/>
          <a:stretch/>
        </p:blipFill>
        <p:spPr>
          <a:xfrm>
            <a:off x="2050920" y="2995560"/>
            <a:ext cx="4753080" cy="184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C959D-0C44-4F31-817B-D87EAC655F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The results of attrition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5373360"/>
            <a:ext cx="838224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e how these rocks are becoming smoother at the ed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916360" y="1413000"/>
            <a:ext cx="2811240" cy="34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E2DA-DB18-4DB7-8A01-86CAE39B0E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3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2266"/>
                </a:solidFill>
                <a:latin typeface="Comic Sans MS"/>
              </a:rPr>
              <a:t>River Erosion 2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67920"/>
            <a:ext cx="822348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ras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r Corras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) is the grinding of rock fragments carried by the river against the bed and banks of the rive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ember – when you scrape your knee if you fall over – this an abra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action causes the channel to widen and deepen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grinding is most powerful in flood time when large fragments of rock are carried along in the river be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" descr="River Erosion"/>
          <p:cNvPicPr/>
          <p:nvPr/>
        </p:nvPicPr>
        <p:blipFill>
          <a:blip r:embed="rId4"/>
          <a:stretch/>
        </p:blipFill>
        <p:spPr>
          <a:xfrm>
            <a:off x="7683480" y="260280"/>
            <a:ext cx="1063800" cy="1152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Abrasion"/>
          <p:cNvPicPr/>
          <p:nvPr/>
        </p:nvPicPr>
        <p:blipFill>
          <a:blip r:embed="rId5"/>
          <a:stretch/>
        </p:blipFill>
        <p:spPr>
          <a:xfrm>
            <a:off x="2195640" y="4527720"/>
            <a:ext cx="4968720" cy="207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9A5F6-2F24-4AED-9FF4-FB65F2C1F7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3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2266"/>
                </a:solidFill>
                <a:latin typeface="Comic Sans MS"/>
              </a:rPr>
              <a:t>River Erosion 3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2234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orrosion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s the process by which river water reacts chemically with soluble minerals in the rocks and dissolves them.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(although this is often called solution – confusing as solution is also a word used in transportation – so in general I don’t – but the animation you will see does!!!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often say things like water pipes corrode – the chemicals in the water seem to eat them away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" descr="River Erosion"/>
          <p:cNvPicPr/>
          <p:nvPr/>
        </p:nvPicPr>
        <p:blipFill>
          <a:blip r:embed="rId3"/>
          <a:stretch/>
        </p:blipFill>
        <p:spPr>
          <a:xfrm>
            <a:off x="7683480" y="260280"/>
            <a:ext cx="1063800" cy="11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8DC77-6F4A-4482-8467-15D6976FA5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3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2266"/>
                </a:solidFill>
                <a:latin typeface="Comic Sans MS"/>
              </a:rPr>
              <a:t>River Erosion 4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2234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additional process is also at work caused by the force of the water itself known a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ydraulic a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is rocks are dragged away from the bed and banks by the force of the running water. 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is just like when you turn up a hose and point it at the ground – the soil and small stones get washed aw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" descr="River Erosion"/>
          <p:cNvPicPr/>
          <p:nvPr/>
        </p:nvPicPr>
        <p:blipFill>
          <a:blip r:embed="rId4"/>
          <a:stretch/>
        </p:blipFill>
        <p:spPr>
          <a:xfrm>
            <a:off x="7683480" y="260280"/>
            <a:ext cx="1063800" cy="11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FF76-979B-46E7-AD5E-344750B20A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Checkout this animation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ttp://ysgol-rhyngrwyd.wikispaces.com/Unit+4+Changing+Ear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is also 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://www.bbc.co.uk/schools/gcsebitesize/geography/riverswater/riverprocessesrev1.shtm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8049-9B57-4356-B38B-C00A4313D3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2T11:40:09Z</dcterms:created>
  <dc:creator>PC USER</dc:creator>
  <dc:description/>
  <dc:language>en-US</dc:language>
  <cp:lastModifiedBy>Lindy</cp:lastModifiedBy>
  <dcterms:modified xsi:type="dcterms:W3CDTF">2009-01-25T15:52:31Z</dcterms:modified>
  <cp:revision>8</cp:revision>
  <dc:subject/>
  <dc:title>River words</dc:title>
</cp:coreProperties>
</file>